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2A19-3558-4889-ACCB-185B45AA3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6F4D-46DD-421C-AE15-FD9BA7320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1E81-75A0-4FBD-951F-2949ACF7D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08E5-96ED-48CF-8F41-513CAF4D4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D89C-B0D3-4411-9B53-C13093B5B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1E3E-5305-4142-9A33-E8741C75A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DD2D-DE62-437F-8827-F6A155185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EEBE-6CCD-4FB7-AE4B-0D4D6EF77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65F4-2212-48AD-A171-7CBB70D95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0AA9-5F06-483B-B19B-B414AE257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7075-D1D7-4C5B-BCF9-787105F2D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8AFA-5EF1-477B-8901-9DF0E9592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7DA3-5673-421D-AA68-7277416D94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0" name="Content Placeholder 7" descr="Screen shot 2011-08-16 at 4.50.08 PM.png"/>
          <p:cNvPicPr/>
          <p:nvPr/>
        </p:nvPicPr>
        <p:blipFill>
          <a:blip r:embed="rId1"/>
          <a:srcRect l="0" t="-105131" r="0" b="-105131"/>
          <a:stretch/>
        </p:blipFill>
        <p:spPr>
          <a:xfrm>
            <a:off x="457200" y="-228600"/>
            <a:ext cx="4038480" cy="6477120"/>
          </a:xfrm>
          <a:prstGeom prst="rect">
            <a:avLst/>
          </a:prstGeom>
          <a:ln w="0">
            <a:noFill/>
          </a:ln>
        </p:spPr>
      </p:pic>
      <p:sp>
        <p:nvSpPr>
          <p:cNvPr id="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213A-3982-402A-9043-F974C7A4EB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304920" y="4419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ten Jennifer   Carla  C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464832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ia      Sandy    Sue   L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ontent Placeholder 12" descr="Screen shot 2011-08-16 at 4.52.47 PM.png"/>
          <p:cNvPicPr/>
          <p:nvPr/>
        </p:nvPicPr>
        <p:blipFill>
          <a:blip r:embed="rId2"/>
          <a:srcRect l="0" t="-3644" r="0" b="-3644"/>
          <a:stretch/>
        </p:blipFill>
        <p:spPr>
          <a:xfrm>
            <a:off x="4648320" y="190512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F97F-1333-4AD7-AE21-1C6D9E098B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0492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issa Lori    Barb  H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49568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y MaryLou Tracey Chri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13" descr="Screen shot 2011-08-16 at 4.55.48 PM.png"/>
          <p:cNvPicPr/>
          <p:nvPr/>
        </p:nvPicPr>
        <p:blipFill>
          <a:blip r:embed="rId1"/>
          <a:srcRect l="0" t="-2514" r="1887" b="-8042"/>
          <a:stretch/>
        </p:blipFill>
        <p:spPr>
          <a:xfrm>
            <a:off x="380880" y="160020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14" descr="Screen shot 2011-08-16 at 4.59.36 PM.png"/>
          <p:cNvPicPr/>
          <p:nvPr/>
        </p:nvPicPr>
        <p:blipFill>
          <a:blip r:embed="rId2"/>
          <a:srcRect l="0" t="-8690" r="0" b="-8690"/>
          <a:stretch/>
        </p:blipFill>
        <p:spPr>
          <a:xfrm>
            <a:off x="4648320" y="1447920"/>
            <a:ext cx="4038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A79-589F-42E8-929C-B3369E5490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ie Heather   Heather Nik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49568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    Tracy    Renee      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11" descr="Screen shot 2011-08-16 at 5.01.05 PM.png"/>
          <p:cNvPicPr/>
          <p:nvPr/>
        </p:nvPicPr>
        <p:blipFill>
          <a:blip r:embed="rId1"/>
          <a:srcRect l="0" t="-26268" r="0" b="-847"/>
          <a:stretch/>
        </p:blipFill>
        <p:spPr>
          <a:xfrm>
            <a:off x="457200" y="16002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6" descr="Screen shot 2011-08-16 at 5.02.30 PM.png"/>
          <p:cNvPicPr/>
          <p:nvPr/>
        </p:nvPicPr>
        <p:blipFill>
          <a:blip r:embed="rId2"/>
          <a:srcRect l="0" t="-6232" r="0" b="3544"/>
          <a:stretch/>
        </p:blipFill>
        <p:spPr>
          <a:xfrm>
            <a:off x="4648320" y="198108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E184-2715-4D9E-8EF1-3F90A51B95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572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  Megan   Daria   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5" descr="Screen shot 2011-08-17 at 11.20.32 AM.png"/>
          <p:cNvPicPr/>
          <p:nvPr/>
        </p:nvPicPr>
        <p:blipFill>
          <a:blip r:embed="rId1"/>
          <a:srcRect l="0" t="-7448" r="0" b="-7448"/>
          <a:stretch/>
        </p:blipFill>
        <p:spPr>
          <a:xfrm>
            <a:off x="457200" y="1600200"/>
            <a:ext cx="4038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0:47:45Z</dcterms:created>
  <dc:creator>CSC</dc:creator>
  <dc:description/>
  <cp:keywords/>
  <dc:language>en-US</dc:language>
  <cp:lastModifiedBy>Kathy Kubota-Zarivnij</cp:lastModifiedBy>
  <dcterms:modified xsi:type="dcterms:W3CDTF">2011-08-19T12:56:21Z</dcterms:modified>
  <cp:revision>16</cp:revision>
  <dc:subject/>
  <dc:title>&lt;Title&gt;</dc:title>
</cp:coreProperties>
</file>